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13C1-7848-4175-BEC6-C643423C9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8E4D-C586-4E04-BC5B-7EDF38B3B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6737-6E03-468B-B018-AB9E71130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6258-B9EA-4D83-9044-B7D7602F7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45CA-AB7C-493A-8928-F49921FF7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E7A4-B254-475A-9372-566DD9D2E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M 6 – Fail Safe Strate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70E0-C8E8-4829-9ADF-B745E3C4D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8CAA-941C-498D-8CC0-64828C35D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D0B5-0049-4714-95A2-90088887F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ADF4-5958-4815-B7CD-4BA61E7AF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58CB-58AC-4BC8-A596-7C9D147DF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1F8C-DD89-4CA2-B3D5-0CB7221A3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4872-BD8F-46F5-804C-53955D046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BC27-028A-4A65-BE1A-6160D4B8D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529C-17A0-45A3-89ED-A02CCB8C8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BL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CD46-D392-4845-98BB-1691F19AF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A190-F564-429C-9876-B0321478D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6B11-7593-450C-9413-AE3C0AC42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0E86-B45F-4D58-B067-1212CD71D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85A4-3CD2-4A0B-BB53-422B1061C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1957-FA35-400E-9D37-B04E3F186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1798-588C-4EF0-8DFC-C974D8DAF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F089-CFC2-44F2-BA88-03E85AB94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84DA-7110-4C62-A290-1EB70BBEC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M 1 – View and Discuss hand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M 1b – Four Corners signage (View and Discuss tit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836F-9E4A-4BA2-A703-E8AE94A7A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A87B-C54C-43DE-AE5A-E58690AF2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do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5B66-DCAC-4D9C-B1EA-69543C258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do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A0F2-9B61-43D1-A6AF-2A091D3C2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econd question is rarely asked, but is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D7A8-6BAB-4622-9E52-4603F04F4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 responses on chart paper, or create electronic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not read carefully and say 2.90 and 4.60– so need to attend to decoding problems or checking that you meet al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have difficulty with the actual calculations with these complex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be very inefficient, e.g. start at 7.50, split it one step at a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get one answer and think that there are no other answers because there is always one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183F-818E-467B-9379-0FA56761F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M2 – Brandon and Alexis Money Problem (Possible difficulty and alternate probl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E31B-04C4-4F3C-8049-3BE374D89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198E-A1A4-4B4E-9436-0AEB1A511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F50C-47FA-4BC0-A8E1-A5B98A642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we did that with the PPQ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32C5-F375-440C-8C35-496C4B1F9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some examples here, e.g. diagnostic, task; anticipation guide;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odeled use of prior assessment using Day 1 exit card; your feedback and questions informed today’s presentation (emphasis, focu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only touch on this today but it is important when you’re back in your class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FA3D-C083-46F0-896E-7BAD3C186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7049-13E9-4631-8194-CD1D25373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some examples here, e.g. diagnostic, task; anticipation guide;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odeled use of prior assessment using Day 1 exit card; your feedback and questions informed today’s presentation (emphasis, focu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only touch on this today but it is important when you’re back in your class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92D4-719C-464C-BB6F-A11F2E467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some examples here, e.g. diagnostic, task; anticipation guide;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odeled use of prior assessment using Day 1 exit card; your feedback and questions informed today’s presentation (emphasis, focu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only touch on this today but it is important when you’re back in your class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AFC1-42F3-4288-A1E3-F0855B822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discus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0B61-2B77-4356-8D0C-EF5F4A3BC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EB84-728D-4F39-A0F2-95A7751BE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A404-CA1F-4BCC-8E21-C364988A1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8637-E1DB-483B-9DB5-2D03C8D07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78E6-F017-4847-857D-99C16986D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6CF3-48C0-4807-8B53-4AC66203C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E41B-D751-4843-8910-3DA56884F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2350-1FA0-48D4-B76F-C5B28B53F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F30C-DE2B-4B1D-8AE3-1EF69BCC5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2151-79D1-4EC4-9A18-5029850A7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EA7F-2AB3-4322-BE52-622E2FAD6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2ED3-7FB9-48F8-AB06-6FD42BF64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94CD-E152-4849-B302-79ED0D5BA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9157-EC03-481B-97E6-EA23039CA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11C9-4C03-495C-AD39-F39A5BD45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should solve one of these before the common questions are 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have used positive coordinates if I see this as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90C2-C1BF-4829-9D98-74796B93B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B168-B937-42DA-BA7D-118BCF6A6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89AF-8678-4F12-A328-8F3C3C007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E658-66D7-4DC8-B08A-108F3C4C5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copies need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o groups – discuss at table; share out a couple of com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223E-5A0D-4E49-9FB8-FB9C94E1B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9900-6D6C-4CD6-B88F-D3364B3CF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E9C4-27AD-48DB-90EE-341FBC7B6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84B7-88C9-4CE1-B467-BB140933E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A392-C616-4B57-B4C2-F0C454706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A01A-3153-4696-ACAA-A6A84CB93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61AF-91BD-4975-B366-6EDF772B6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EA48-E7C5-43B9-B1C2-8CD54D0B0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399A-2F02-47DD-8789-6A44FE8AE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B71B-3692-4165-874A-94D44E123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ice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+ (n +1) or 2n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–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ice 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n+1) or 2n 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0-n)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 + 2 + 1  or 3 (n+1) o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3971-D762-4B6B-9F8A-B0C39698A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DC37-A25B-4428-A36E-A9D8860EF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8C20-386A-486D-819D-04979F7C4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D7A0-D592-4DE0-82E2-1FD5B4E76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93BA-388F-436F-BD08-83539C05E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AA3B-0020-4C0B-BB8F-E95C0F986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7B67-80D9-4913-A825-6AE118F4E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how different but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13CA-6BCD-4391-B6DA-1712AE628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428A-6A25-4993-BF74-01F9A80F6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Virtual Tiles IWB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FD04-F99E-4333-B9B1-23C6EC2E6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915E-ACB4-4A39-9FA8-F74672193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3 (Parallel Task Samples You’ve Seen) and BLM 4 (Parallel Choices reformatted with common questions column blan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38B5-BF23-4305-BAB8-4C2DCC228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copies (from Day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at table; share out a couple of com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2AB5-3D8D-48BF-961C-51D8BDC24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ge needed here – Each option name per cor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8AD8-B8A1-4145-86F8-1E7C626B3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E08C-EF3C-4B15-9115-731A89534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D977-DAA3-47C6-9823-601609CAE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6901-F778-49D3-AC2C-BBA6A053B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4EB6-E2BB-4F37-9716-C2EF754AA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y = 4x – 4 or y =  4(x-2)^2 + 4 or y = 2x^3 -8x^2 +6x +8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33B8-2ED7-4A01-929A-C1C7F6D9F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2B37-9932-4B9E-B2BB-461C635EB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4143-C39D-4B0A-8A83-1823C937C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ACC9-9E7F-4F3F-8281-1BBD76243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36A7-74CE-4EE9-A5E1-79249D0CB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CF06-F835-4E8C-9774-ADFB8891E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0B42-83C6-4043-9264-7CBBFCC1A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5EF2-EEF4-4891-9E92-16AC5E5DB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69E8-33EF-4D1F-A36E-E9AB23B74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A6EE-5E41-4E98-B08B-03BE5E511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2552-EB47-4FDF-8DE1-72AD2C329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trying to see if students have met the goal; coherent whole (BI); meet the curriculum expectations; may be considered modification if considering parallel tasks in consol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E8E4-7252-4D21-A9E2-95ECD5400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BI would be possible for examples; possible BI sugge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examples from Minds-On, Action! And Consolidate/Debrief (2 from each) will appear in PPT; BLM 5 will include the other examp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C16D-674A-4D81-9920-876EC5DB4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don’t just ask the open question and walk away– you ask probing questions, just like we used common questions for parallel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B254-C5C3-4BBD-809D-6F65A8404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them which big idea  (it’s BI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3137-73B1-46F8-A13B-0A481DB4C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A34E-2035-41BD-8C84-F46057744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they see that open activities benefit the weak and the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232B-1CA1-43CB-BE50-355AFB166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BCDF-E44B-441D-8B18-0E447C01A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A84B-0C1E-4064-8905-3C3E06EA6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7CD4-D0E2-4C5E-A773-E462D3EAF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A720-5B41-4E89-ADA5-300A4A3D0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hem to know the difference between equations with single solutions and “identiti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E87C-D514-4B4B-BE4F-2EB5CB5A0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5C42-6351-4C65-AEDE-3B549FF95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M 5 – Open Questions_Matching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0115-6361-4CC1-AAF1-DB7353CB4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718C-8200-45D2-A07A-394071A5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FF92-8303-4941-882C-E06087ED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4951-FC55-469B-A3FD-9DD6AEE4D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9B8D-29CF-4BF9-8294-FD9CD2C1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9637-38F4-471F-BCC8-1345750A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CC29-6C8A-4AD7-98A5-3F1C3BCD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B98A-C510-4E73-8CF7-8E3E94CF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F096-6848-4F18-8461-82B0AA1B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8A07-DA48-4C1F-855B-C99F5D69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B76B-5C90-4302-B405-D68EADDA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FC52-0ED9-47E6-83B7-860ED914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5AC9-2AB5-4F18-9791-EED7D89C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CE06-82AC-4A12-A7C6-D22E54E8BE5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7" descr="Untitled-1"/>
          <p:cNvPicPr/>
          <p:nvPr/>
        </p:nvPicPr>
        <p:blipFill>
          <a:blip r:embed="rId2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1"/>
          <p:cNvSpPr/>
          <p:nvPr/>
        </p:nvSpPr>
        <p:spPr>
          <a:xfrm>
            <a:off x="304920" y="5638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Comic Sans MS"/>
              </a:rPr>
              <a:t>Day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GAINS_Globe_70smws"/>
          <p:cNvPicPr/>
          <p:nvPr/>
        </p:nvPicPr>
        <p:blipFill>
          <a:blip r:embed="rId1"/>
          <a:stretch/>
        </p:blipFill>
        <p:spPr>
          <a:xfrm>
            <a:off x="685800" y="838080"/>
            <a:ext cx="2637000" cy="49532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1"/>
          <p:cNvSpPr/>
          <p:nvPr/>
        </p:nvSpPr>
        <p:spPr>
          <a:xfrm>
            <a:off x="4572000" y="2897280"/>
            <a:ext cx="444492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Comic Sans MS"/>
              </a:rPr>
              <a:t>Professional Learning for Mathematics Leaders and Coaches—</a:t>
            </a:r>
            <a:r>
              <a:rPr b="0" i="1" lang="en-US" sz="3600" spc="-1" strike="noStrike">
                <a:solidFill>
                  <a:srgbClr val="0d469b"/>
                </a:solidFill>
                <a:latin typeface="Comic Sans MS"/>
              </a:rPr>
              <a:t>Not just a 3-part 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BFCB-6AD9-46AA-BFF8-BA514FEC27E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468360" y="99072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Responding to Day 1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B8A2-0B60-4B4A-939D-95CBFFF6776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905120"/>
            <a:ext cx="8229600" cy="61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time to work on consolidation/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big ideas/from w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der in PPQ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consolidation in classro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3"/>
          <p:cNvSpPr/>
          <p:nvPr/>
        </p:nvSpPr>
        <p:spPr>
          <a:xfrm>
            <a:off x="884160" y="1895400"/>
            <a:ext cx="78138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ich open questions did you find most difficult to place? 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similarities and/or differences did you observe between your choices and those of your colleagu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Matching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0058-3810-4D0E-9C43-75F4C28446E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7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3"/>
          <p:cNvSpPr/>
          <p:nvPr/>
        </p:nvSpPr>
        <p:spPr>
          <a:xfrm>
            <a:off x="1066680" y="2057400"/>
            <a:ext cx="7315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ten you can start from an existing lesson and open parts of it u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Starting from a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81F0-5274-4F37-9F17-33D4AF831B3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3"/>
          <p:cNvSpPr/>
          <p:nvPr/>
        </p:nvSpPr>
        <p:spPr>
          <a:xfrm>
            <a:off x="1066680" y="2057400"/>
            <a:ext cx="73152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strategy is to start with an answer and create a question. For example, a  growing pattern has 20 as the 9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erm. What could the pattern 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Fail-safe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7405-A0D0-4133-892E-EECAC6509CB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3"/>
          <p:cNvSpPr/>
          <p:nvPr/>
        </p:nvSpPr>
        <p:spPr>
          <a:xfrm>
            <a:off x="1066680" y="205740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other is to ask for similarities and differences. For example, how is factoring 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5x+6 like and different from factoring 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 2x – 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Fail-safe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37B8-60F0-40DE-9BA2-1C77C581089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8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3"/>
          <p:cNvSpPr/>
          <p:nvPr/>
        </p:nvSpPr>
        <p:spPr>
          <a:xfrm>
            <a:off x="1066680" y="205740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other is to let the student choose values. For example, ask students to choose values for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 graph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 +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Fail-safe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0705-502B-45EB-8758-9E72327056B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3"/>
          <p:cNvSpPr/>
          <p:nvPr/>
        </p:nvSpPr>
        <p:spPr>
          <a:xfrm>
            <a:off x="1066680" y="205740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rom the other examples we have seen, you can see that these are not the only three strategies but they are helpfu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Other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DC4A-5292-4732-A53F-4ABA1D68813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3"/>
          <p:cNvSpPr/>
          <p:nvPr/>
        </p:nvSpPr>
        <p:spPr>
          <a:xfrm>
            <a:off x="1066680" y="2057400"/>
            <a:ext cx="73152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oose one of the following tasks. Make it more op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A43B-14C5-46B6-B46F-1F09E3DB498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3"/>
          <p:cNvSpPr/>
          <p:nvPr/>
        </p:nvSpPr>
        <p:spPr>
          <a:xfrm>
            <a:off x="1066680" y="205740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have 14 $5-bills. How many toonies do you need to have $1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combination of $2 coins and $5 bills have a total value of $1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7E4C-5E0D-430F-966E-06303A55849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6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1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3"/>
          <p:cNvSpPr/>
          <p:nvPr/>
        </p:nvSpPr>
        <p:spPr>
          <a:xfrm>
            <a:off x="1143000" y="2438280"/>
            <a:ext cx="73152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nk about why you might use an open question in each part of the lesson. Would your reasons be the sa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scuss this in your gro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2D6A-66FE-493F-9A8F-5783A4046D1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3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3"/>
          <p:cNvSpPr/>
          <p:nvPr/>
        </p:nvSpPr>
        <p:spPr>
          <a:xfrm>
            <a:off x="1143000" y="2438280"/>
            <a:ext cx="7315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0070-9ABB-4A62-AC87-F67DB197B76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685800" y="6904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Co-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847800" y="1909800"/>
            <a:ext cx="76104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 in board te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the resource(s) that you brought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just one or more parts of a lesson by incorporating an open question and/or parallel ta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the PPQT to record your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0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5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0" dur="5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85800" y="99072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Questions from Da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066680" y="2362320"/>
            <a:ext cx="741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have any other outstanding questions from Day 1, please post these on our parking lo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16EC-E9C1-470F-9BAD-60EAB9C14E5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3"/>
          <p:cNvSpPr/>
          <p:nvPr/>
        </p:nvSpPr>
        <p:spPr>
          <a:xfrm>
            <a:off x="1143000" y="2438280"/>
            <a:ext cx="7315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6E6C-53E5-4168-9D6A-BF7D839950B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"/>
          <p:cNvSpPr/>
          <p:nvPr/>
        </p:nvSpPr>
        <p:spPr>
          <a:xfrm>
            <a:off x="685800" y="6904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Breako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847800" y="1909800"/>
            <a:ext cx="76104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/B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01" dur="indefinite" restart="never" nodeType="tmRoot">
          <p:childTnLst>
            <p:seq>
              <p:cTn id="1402" dur="indefinite" nodeType="mainSeq">
                <p:childTnLst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7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2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o Do” Between Sess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203040" y="2187720"/>
            <a:ext cx="867744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685800" y="9907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Revised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3870-6C2F-4090-AA74-B9CF5A60417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884160" y="1749600"/>
            <a:ext cx="7156440" cy="4886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85800" y="9907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as our focus in Day 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47640" y="1905120"/>
            <a:ext cx="77598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looked at the ideas tha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n planning a lesson, you design backwards: focus in on a goal and plan your lesson around that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7529-2897-4975-81E9-ED6FCEA260D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990720" y="1905120"/>
            <a:ext cx="779436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goal for a lesson is created based on curriculum expectations, but filtered through the lens of 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685800" y="9907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as our focus in Day 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B2D5-F69D-4B11-8119-E3090F5ED46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576360" y="2057400"/>
            <a:ext cx="80992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(s) to consolidate the goal are essential and may inform other parts of the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685800" y="9907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as our focus in Day 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2986-2CFE-4FFF-A25C-9063C3859C1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684360" y="2057400"/>
            <a:ext cx="777384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sponses to consolidating question(s) are useful assessment for learning informa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685800" y="9907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as our focus in Day 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C34C-01B7-41C3-ADA5-00264EDDEFA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914400" y="210348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nsolidation question(s) need to reflect the goal, whether the lesson is a concept-building lesson or a practice les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685800" y="9907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as our focus in Day 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00E6-E862-4FE0-A1FB-55701E09FDE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684360" y="1905120"/>
            <a:ext cx="7991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nsolidation question(s) is more than just “do another one”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685800" y="9907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as our focus in Day 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E511-5D61-45BD-B9C7-3D0A3436808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w let’s change direction a bit</a:t>
            </a:r>
            <a:br>
              <a:rPr sz="44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8900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have been focusing on the mat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w let’s focus on the stude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D8ED-3F7F-4E8A-9E3A-729A9281EB5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685800" y="9907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ur Corners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990720" y="190512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 to the corner for the View and Discuss between-session opportunity you took advantage of OR are most interested 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1C19-A054-44C1-8D2F-1C5668C3953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68360" y="99072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inking about differenti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755640" y="2060640"/>
            <a:ext cx="7956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t’s look at a problem we might plan to use to see how thinking about difficulties students might have could lead you to alter the problem or differentiate the tas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1181-3252-4CB7-A5EF-ED896E12C9F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uppose this is the scenario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066680" y="1828800"/>
            <a:ext cx="741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7522-5B08-4553-9C80-A7EB134FE14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Picture 1.png"/>
          <p:cNvPicPr/>
          <p:nvPr/>
        </p:nvPicPr>
        <p:blipFill>
          <a:blip r:embed="rId1"/>
          <a:stretch/>
        </p:blipFill>
        <p:spPr>
          <a:xfrm>
            <a:off x="252360" y="259560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uppose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84360" y="1828800"/>
            <a:ext cx="779940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want your students to solve this probl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andon and Alexis counted their money. Together, they had $7.50, but Brandon had $2.90 more than Alexi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BDDF-0E53-4EE6-9A51-6DAE28FA741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1066680" y="1295280"/>
            <a:ext cx="7417080" cy="67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ndon and Alexis counted their money. Together, they had $7.50, but Brandon had $2.90 more than Ale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) How much did each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) How do you know there are no other answ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D42E-C133-44E6-B9D4-C2E57ED2191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talk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066680" y="1828800"/>
            <a:ext cx="7417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make a “top 5” list of anticipated difficulti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E898-4CA3-4965-909D-0273D4D2C7B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155600" y="9079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Look at one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539640" y="1746360"/>
            <a:ext cx="8317080" cy="81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ve a look at the hand-out showing one approach to dealing with a possible difficult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 pair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ggest an alternate problem based on a possible difficult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585B-ED1D-4979-BD7E-89ABF62B4C5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Let’s 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066680" y="2057400"/>
            <a:ext cx="764568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r alternate problem address the difficul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ACA4-9277-4EFA-A80F-7F1CAEA084A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685800" y="99072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is approach might lead t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826920" y="2057400"/>
            <a:ext cx="765684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fferentiating instruction, maybe offering one problem to some students and another to oth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4900-4105-47F4-96D2-277986DDBC0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90720" y="213372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ocus on big ideas (to have something big enough to differenti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40F7-4CBE-4B5A-9A57-298C6A1133E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34920" y="2133720"/>
            <a:ext cx="741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or assessment (to know the need and direction to differenti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5BA2-D06B-4054-8B58-FD136378AC0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685800" y="9907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ur Corners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90720" y="190512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are some of your observations and/or thoughts with those from other boards in your corn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B8F8-8D66-4986-92AE-3E4C303F87D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701640" y="990720"/>
            <a:ext cx="76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Anticipation Guide for Grade 8 Al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E221-865C-480C-9FF0-3D52D3422D3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1760400" y="2771640"/>
            <a:ext cx="5562720" cy="36766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228600" y="259092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 or disagree. Expl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701640" y="990720"/>
            <a:ext cx="76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Exit Card, Da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973F-4136-4F6A-B475-D4920D45A0F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1760400" y="2114640"/>
            <a:ext cx="5524560" cy="4324320"/>
          </a:xfrm>
          <a:prstGeom prst="rect">
            <a:avLst/>
          </a:prstGeom>
          <a:ln w="0">
            <a:noFill/>
          </a:ln>
        </p:spPr>
      </p:pic>
      <p:sp>
        <p:nvSpPr>
          <p:cNvPr id="151" name="Rounded Rectangle 6"/>
          <p:cNvSpPr/>
          <p:nvPr/>
        </p:nvSpPr>
        <p:spPr>
          <a:xfrm>
            <a:off x="1760400" y="4159080"/>
            <a:ext cx="3724560" cy="584280"/>
          </a:xfrm>
          <a:prstGeom prst="roundRect">
            <a:avLst>
              <a:gd name="adj" fmla="val 16667"/>
            </a:avLst>
          </a:prstGeom>
          <a:solidFill>
            <a:srgbClr val="ffccff">
              <a:alpha val="40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90720" y="216864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ice (to actually differenti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4636-5F78-4AD0-B29C-78BC7A45876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many of us do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90720" y="2023920"/>
            <a:ext cx="741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nventional approach to differentiating is to scaffold-- presenting problems in bits. Maybe this is not the only or the best way, to differentiat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DCF3-6132-4EF2-9CF2-1DF1892DD21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ur focus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826920" y="2023920"/>
            <a:ext cx="741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ll be on two strategi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680B-24E3-46AD-A004-D3D540BAE81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’ve met 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792000" y="2097000"/>
            <a:ext cx="7417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member Day 1’s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 questio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about creating a linear growing pattern beginning at -10 that grew slowl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741C-5117-402D-8A79-415C11961A5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’ve met 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826920" y="2097000"/>
            <a:ext cx="7417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member Day 1’s task where you matched questions to big ideas but different groups used different 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2595-854C-4364-BDD0-0F6F8B01675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nticipated difficul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00000" y="2097000"/>
            <a:ext cx="7417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y anticipating the “difficulty” some grade 7-9 teachers might have with grade 11 or 12 content, we differentiated the tas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1963-BA8B-46A8-BB5B-FE2F346A4E8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In parallel task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826920" y="2168640"/>
            <a:ext cx="741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look at the same instructional goal, with the anticipated student difficulty address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D312-FB72-46E2-8149-89689B79CDF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e coul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826920" y="213372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ok at your listing of alternative Brandon/Alexis ques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may have already created parallel task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52DC-8E4C-4FC0-A86B-1FF02A4218D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685800" y="99072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ore sha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55640" y="2023920"/>
            <a:ext cx="7645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try out any goal setting/question writing activities related to our last session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are what happened with a partn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C109-389F-4097-B519-1D693877FC6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All that’s miss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826920" y="209700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how to handle the class when different students work on different tasks focused on the same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’ll address that now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66CF-6016-4319-9C7C-148A6AA4893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An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1A18-B7D7-468A-8EF9-2AF07459106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Picture 2.png"/>
          <p:cNvPicPr/>
          <p:nvPr/>
        </p:nvPicPr>
        <p:blipFill>
          <a:blip r:embed="rId1"/>
          <a:stretch/>
        </p:blipFill>
        <p:spPr>
          <a:xfrm>
            <a:off x="108000" y="2133720"/>
            <a:ext cx="9144000" cy="355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3"/>
          <p:cNvSpPr/>
          <p:nvPr/>
        </p:nvSpPr>
        <p:spPr>
          <a:xfrm>
            <a:off x="792000" y="19810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plan to ask: 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The slope of a line is -2/3. Tell us the coordinates of two points on the l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CC3B-6312-4150-BDDB-7B6C940CE91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 could anticipat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11280" y="2168640"/>
            <a:ext cx="78357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at some students may need more time with positive slopes before they are ready for problems involving negative slop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69C4-6929-40B9-88E6-9637607DC2B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Looking at the goal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468360" y="3205080"/>
            <a:ext cx="8209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gative slopes are not really required. Students could address the goal using either positive or negative slop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86DA-757A-4E53-BEB8-1873FADE0F8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Picture 1.png"/>
          <p:cNvPicPr/>
          <p:nvPr/>
        </p:nvPicPr>
        <p:blipFill>
          <a:blip r:embed="rId1"/>
          <a:stretch/>
        </p:blipFill>
        <p:spPr>
          <a:xfrm>
            <a:off x="380880" y="2057400"/>
            <a:ext cx="8367840" cy="88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863640" y="2133720"/>
            <a:ext cx="7416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create parallel tasks, offering choices accessible to more stude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7FFB-A002-4D71-82F8-812239F5072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4876920" y="1901880"/>
            <a:ext cx="37335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ne of slope 2/3 goes through (-4,-1).   Name two more points on the l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762120" y="1828800"/>
            <a:ext cx="37335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ne of slope -2/3 goes through (-4,-1).  Name two more points on the l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FF08-854E-46AB-B974-77B6F608E91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762120" y="2149560"/>
            <a:ext cx="7772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 you know which way your line slants? How do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BC64-27D8-4468-BC95-BA5EEF239EA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762120" y="2149560"/>
            <a:ext cx="802296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(-4, 3) be on your line? How do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(-3, 0) be on your line? How do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621F-7D88-451D-9FAF-6C44609CA5F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468360" y="2149560"/>
            <a:ext cx="83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are your points and how did you get th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did many of you choose points with x-coordinates of   -1 and -7, but not -5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0462-90AA-4BB0-B14D-9ACA243C849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24000" y="990720"/>
            <a:ext cx="866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Responses to Sticky Note Pile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576360" y="2097000"/>
            <a:ext cx="82087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tried this activity, what was it connected to? (e.g. norms for collaborative group wor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was the value to you, your students or fellow colleagu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else could you use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2D75-061B-4E23-921F-7D9971A5BFA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863640" y="213372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e useful particularly for the main instructional activity in a 3-part les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3CEB-70B3-44A5-8F2B-278539F63F8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e MATCH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863640" y="2658960"/>
            <a:ext cx="74167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Picture 1.png"/>
          <p:cNvPicPr/>
          <p:nvPr/>
        </p:nvPicPr>
        <p:blipFill>
          <a:blip r:embed="rId1"/>
          <a:stretch/>
        </p:blipFill>
        <p:spPr>
          <a:xfrm>
            <a:off x="1365120" y="2222640"/>
            <a:ext cx="1181160" cy="1600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Picture 2.png"/>
          <p:cNvPicPr/>
          <p:nvPr/>
        </p:nvPicPr>
        <p:blipFill>
          <a:blip r:embed="rId2"/>
          <a:stretch/>
        </p:blipFill>
        <p:spPr>
          <a:xfrm>
            <a:off x="1371600" y="3429000"/>
            <a:ext cx="1193760" cy="17524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Picture 3.png"/>
          <p:cNvPicPr/>
          <p:nvPr/>
        </p:nvPicPr>
        <p:blipFill>
          <a:blip r:embed="rId3"/>
          <a:stretch/>
        </p:blipFill>
        <p:spPr>
          <a:xfrm>
            <a:off x="1371600" y="4648320"/>
            <a:ext cx="1181160" cy="1930320"/>
          </a:xfrm>
          <a:prstGeom prst="rect">
            <a:avLst/>
          </a:prstGeom>
          <a:ln w="0">
            <a:noFill/>
          </a:ln>
        </p:spPr>
      </p:pic>
      <p:sp>
        <p:nvSpPr>
          <p:cNvPr id="215" name="Slide Number Placeholder 7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3071-E94D-4701-B756-F58EB67F84A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Where you might use the previous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685800" y="251460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evious parallel task could have been the Action! if slope had just been introduc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71F4-31BF-4D42-B98F-FC589E5D73A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719280" y="990720"/>
            <a:ext cx="75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Where you might use 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685800" y="2133720"/>
            <a:ext cx="8026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y could have been the Minds On if students already had significant experience with slop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E0A5-DDE8-4D8D-8A51-BE7DF397E8D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nother examp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69DB-C8C1-429B-9C7A-F8C1B64B2FB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8" descr="Picture 1.png"/>
          <p:cNvPicPr/>
          <p:nvPr/>
        </p:nvPicPr>
        <p:blipFill>
          <a:blip r:embed="rId1"/>
          <a:stretch/>
        </p:blipFill>
        <p:spPr>
          <a:xfrm>
            <a:off x="144360" y="2276640"/>
            <a:ext cx="9144000" cy="372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riginal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84360" y="2384280"/>
            <a:ext cx="7772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had planned an activity where students would translate a series of algebraic expressions into words and vice-vers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3522-10B2-40BA-AD6F-8C3C8B9901E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e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762120" y="214956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realized that some expressions may be much more difficult for students than oth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CE4B-3544-46E2-8B3D-600F3D8355A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762120" y="214956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want the more difficult ones addressed, but you need to build succes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A4D7-E404-4FEA-B3B5-BD2E95EE881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e 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762120" y="2149560"/>
            <a:ext cx="76197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rite each of the three phrases as an algebraic express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6512-7154-42F7-AC60-2AB484BC270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e 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503280" y="2023920"/>
            <a:ext cx="3960720" cy="46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oice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iple a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btract a number from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d a number to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48A8-E752-435B-85D8-D5970DBC7EA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4680000" y="2019240"/>
            <a:ext cx="42354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oice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d 1 to a number and then doubl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btract a number from 10 and then divide by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iple a number, add 2 and then add 1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24000" y="990720"/>
            <a:ext cx="866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ticky Note Pileup Exemp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576360" y="2097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&lt;&lt;Insert Shirley’s picture(s) of sticky note pileup poster here&gt;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2658-6820-45B9-92BB-7629C6FD91F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762120" y="1905120"/>
            <a:ext cx="77724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operation signs appeared in your algebraic expression? Why tho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re there other ways to write your expression? Expla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3255-1EB9-4ECC-93DE-FECDB942A00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762120" y="2149560"/>
            <a:ext cx="77724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it matter which letter you used for your variable? Why or why no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was easiest for you?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915B-8627-45AC-B341-37B78F02C20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914400" y="1905120"/>
            <a:ext cx="777240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you have ended up with the same expression with slightly different wor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might someone say it’s easier to use the algebraic expressions than the wor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D6EA-287A-4F6A-8E45-3DA1199FA13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AA68-0092-4E15-A9AE-A7A3DAA5FEC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6" descr="Picture 3.png"/>
          <p:cNvPicPr/>
          <p:nvPr/>
        </p:nvPicPr>
        <p:blipFill>
          <a:blip r:embed="rId1"/>
          <a:stretch/>
        </p:blipFill>
        <p:spPr>
          <a:xfrm>
            <a:off x="181080" y="2330280"/>
            <a:ext cx="9144000" cy="3870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ne mor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0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3"/>
          <p:cNvSpPr/>
          <p:nvPr/>
        </p:nvSpPr>
        <p:spPr>
          <a:xfrm>
            <a:off x="762120" y="214956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articular operation the student uses is irrelevant to the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0227-F413-4621-92F7-514265FC476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 the choices might b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684360" y="1909800"/>
            <a:ext cx="3773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algebra tiles to model two polynomials that add to 6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8x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4730760" y="1909800"/>
            <a:ext cx="3657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algebra tiles to model two polynomials that multiply to 6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8x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8EA4-4D19-43B7-8034-057AC48B2E6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me 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762120" y="1981080"/>
            <a:ext cx="7696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algebra tiles show 6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8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there any other way to model that polynomi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7512-E7C6-4417-A749-40292A7F923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0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me 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762120" y="1981080"/>
            <a:ext cx="7696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 arrange your ti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there any other way you could have arranged the tile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0A9B-555B-4392-9502-25BCF24FD83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5904000" y="5842080"/>
            <a:ext cx="2089080" cy="459720"/>
          </a:xfrm>
          <a:prstGeom prst="rect">
            <a:avLst/>
          </a:prstGeom>
          <a:solidFill>
            <a:srgbClr val="ff99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rtual 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0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me 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762120" y="198108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 figure out how to star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7F99-148D-4B1F-9A72-CDDB4906FD7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762120" y="1752480"/>
            <a:ext cx="7696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 your group, choose one of the suggested set of parallel task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velop some common ques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9327-3422-46D6-87CE-8BA2841027B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0" y="990720"/>
            <a:ext cx="899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Responses to professional learning protocols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503280" y="2724120"/>
            <a:ext cx="8172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 those of you who have been coached or been a coach, which of these protocols is one requiring more focus for you? Wh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7EED-4053-43B1-8711-47F7E3C840D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762120" y="1895400"/>
            <a:ext cx="7696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 to the one of the four corners for people who did your task. Share your questions with another group in your corn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F061-0559-4CE7-9724-3B44A4F5542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762120" y="199692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think about open ques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B45D-A9E7-4B4F-BFA3-7D30A35FD6D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0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Picture 1.png"/>
          <p:cNvPicPr/>
          <p:nvPr/>
        </p:nvPicPr>
        <p:blipFill>
          <a:blip r:embed="rId1"/>
          <a:stretch/>
        </p:blipFill>
        <p:spPr>
          <a:xfrm>
            <a:off x="0" y="1349280"/>
            <a:ext cx="9144000" cy="4159440"/>
          </a:xfrm>
          <a:prstGeom prst="rect">
            <a:avLst/>
          </a:prstGeom>
          <a:ln w="0">
            <a:noFill/>
          </a:ln>
        </p:spPr>
      </p:pic>
      <p:sp>
        <p:nvSpPr>
          <p:cNvPr id="279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E209-CC9C-4A91-92BB-1F67523B485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990720" y="1981080"/>
            <a:ext cx="304776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be a relation… sort of like this o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5105520" y="1905120"/>
            <a:ext cx="304776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ype of relation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B2BB-1A35-481D-B601-1F656A16998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0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e underlying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826920" y="216864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which big idea do you think this question might relat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FDE5-46F9-47C0-8F2D-9D6DC083E7F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0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990720" y="2209680"/>
            <a:ext cx="76500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: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ap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passes through the points (2,4) and (3,8).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escribe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lation the graph could represen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9424-A411-47BD-8520-919009492FF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3"/>
          <p:cNvSpPr/>
          <p:nvPr/>
        </p:nvSpPr>
        <p:spPr>
          <a:xfrm>
            <a:off x="1066680" y="22096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t op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 A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in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passes through the points (2,4) and (3,8).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rite the equatio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the l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DA85-C43C-4657-B18E-01CDCD4FD9C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made it o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066680" y="289548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made the first question o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2ABD-DEB6-48FC-A6A5-CF0CA5ABE6C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0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990720" y="2057400"/>
            <a:ext cx="25146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 Write an equation and solve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4572000" y="1981080"/>
            <a:ext cx="41911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e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 Solve 3x-2 = 8.  Describe your strateg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6774-25B0-494A-9054-542407CDBB2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0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0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1155600" y="990720"/>
            <a:ext cx="67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Using open questions for assessment for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066680" y="28954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open question, as a minds-on activity, provides valuable information about how to proceed with your les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4" descr="Picture 1.png"/>
          <p:cNvPicPr/>
          <p:nvPr/>
        </p:nvPicPr>
        <p:blipFill>
          <a:blip r:embed="rId1"/>
          <a:stretch/>
        </p:blipFill>
        <p:spPr>
          <a:xfrm>
            <a:off x="0" y="2629080"/>
            <a:ext cx="1181160" cy="1600200"/>
          </a:xfrm>
          <a:prstGeom prst="rect">
            <a:avLst/>
          </a:prstGeom>
          <a:ln w="0">
            <a:noFill/>
          </a:ln>
        </p:spPr>
      </p:pic>
      <p:sp>
        <p:nvSpPr>
          <p:cNvPr id="302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E0D4-7103-4E16-A69D-723CA223052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0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Responding to Day 1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533520" y="1712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4"/>
          <p:cNvSpPr/>
          <p:nvPr/>
        </p:nvSpPr>
        <p:spPr>
          <a:xfrm>
            <a:off x="1981080" y="4056120"/>
            <a:ext cx="609840" cy="1219320"/>
          </a:xfrm>
          <a:prstGeom prst="upDownArrow">
            <a:avLst>
              <a:gd name="adj1" fmla="val 50000"/>
              <a:gd name="adj2" fmla="val 3980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4800600" y="4970520"/>
            <a:ext cx="167652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4876920" y="5808600"/>
            <a:ext cx="1295280" cy="533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441960" y="630252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We’re lis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3"/>
          <p:cNvSpPr/>
          <p:nvPr/>
        </p:nvSpPr>
        <p:spPr>
          <a:xfrm>
            <a:off x="900000" y="202392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might tell you that there are missing prerequisites that will get in the w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9F81-1D44-4DC3-870E-B3BA0EE19D8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3"/>
          <p:cNvSpPr/>
          <p:nvPr/>
        </p:nvSpPr>
        <p:spPr>
          <a:xfrm>
            <a:off x="863640" y="177336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might tell you that your students already know what you were planning to teac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F162-8235-4B69-B330-F63C3960837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3"/>
          <p:cNvSpPr/>
          <p:nvPr/>
        </p:nvSpPr>
        <p:spPr>
          <a:xfrm>
            <a:off x="792000" y="15922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might tell you that your lesson is going in the right direction, but needs a few “tweaks”; recognizing what students have said could hel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4E66-F817-480C-AFC9-846CB5B8476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503280" y="1096920"/>
            <a:ext cx="81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mparing open questions and 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468360" y="2835360"/>
            <a:ext cx="835164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questions might be more vague than parallel task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metimes an open question can replace two parallel on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7C89-4E2D-419E-9B8C-83335614D49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0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990720" y="220968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  the parallel task where we used a positive slope vs a negative one, we could have sai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1B15-CEFF-4195-8E20-6B4F28BED1A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0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755640" y="2209680"/>
            <a:ext cx="795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ne goes through (-4,-1). Choose its slop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ce you’ve chosen it, name another point on the lin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D091-1F32-4C7B-A454-C2D85E9D520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3"/>
          <p:cNvSpPr/>
          <p:nvPr/>
        </p:nvSpPr>
        <p:spPr>
          <a:xfrm>
            <a:off x="503280" y="2057400"/>
            <a:ext cx="824544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pen questions can work in all three parts of a three-part les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arallel questions suit the Action! and perhaps Minds On, but not likely the Consolidate/Debrief where things are pulled toge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Where to use ope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D41F-5545-4E91-8022-54D3D4C24F7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3"/>
          <p:cNvSpPr/>
          <p:nvPr/>
        </p:nvSpPr>
        <p:spPr>
          <a:xfrm>
            <a:off x="1066680" y="205740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 example, a Minds On open question related to Big Idea 5 might be: Create two linear growing patterns that you think are really simil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78AE-EA05-41ED-8333-CF60F542A96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4" descr="Picture 1.png"/>
          <p:cNvPicPr/>
          <p:nvPr/>
        </p:nvPicPr>
        <p:blipFill>
          <a:blip r:embed="rId1"/>
          <a:stretch/>
        </p:blipFill>
        <p:spPr>
          <a:xfrm>
            <a:off x="0" y="1523880"/>
            <a:ext cx="1181160" cy="160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3"/>
          <p:cNvSpPr/>
          <p:nvPr/>
        </p:nvSpPr>
        <p:spPr>
          <a:xfrm>
            <a:off x="1066680" y="2057400"/>
            <a:ext cx="73152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could as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makes them simi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are their pattern rules simi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0EEE-1E69-4467-BB1D-444D8E54622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3"/>
          <p:cNvSpPr/>
          <p:nvPr/>
        </p:nvSpPr>
        <p:spPr>
          <a:xfrm>
            <a:off x="1066680" y="2057400"/>
            <a:ext cx="7315200" cy="31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 a lesson on linear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qua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ou know that x + y = 5.  What else do you know about x and y?  (Related to BI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Some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B419-2FDA-4017-B1EC-D1FAD458C98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Picture 1.png"/>
          <p:cNvPicPr/>
          <p:nvPr/>
        </p:nvPicPr>
        <p:blipFill>
          <a:blip r:embed="rId1"/>
          <a:stretch/>
        </p:blipFill>
        <p:spPr>
          <a:xfrm>
            <a:off x="0" y="1523880"/>
            <a:ext cx="1181160" cy="160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609480" y="1744560"/>
            <a:ext cx="7772400" cy="500724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5"/>
          <p:cNvSpPr/>
          <p:nvPr/>
        </p:nvSpPr>
        <p:spPr>
          <a:xfrm>
            <a:off x="4419720" y="4030560"/>
            <a:ext cx="213336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4435560" y="5249880"/>
            <a:ext cx="1295280" cy="533520"/>
          </a:xfrm>
          <a:prstGeom prst="wedgeRoundRectCallout">
            <a:avLst>
              <a:gd name="adj1" fmla="val -79046"/>
              <a:gd name="adj2" fmla="val -6546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3044880" y="517356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We’re 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is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4419720" y="5859360"/>
            <a:ext cx="3809880" cy="762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Responding to Day 1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For the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1630-0C88-4481-8218-C12163E289F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6" descr="Picture 2.png"/>
          <p:cNvPicPr/>
          <p:nvPr/>
        </p:nvPicPr>
        <p:blipFill>
          <a:blip r:embed="rId1"/>
          <a:stretch/>
        </p:blipFill>
        <p:spPr>
          <a:xfrm>
            <a:off x="762120" y="1905120"/>
            <a:ext cx="1193760" cy="175248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4"/>
          <p:cNvSpPr/>
          <p:nvPr/>
        </p:nvSpPr>
        <p:spPr>
          <a:xfrm>
            <a:off x="1981080" y="1981080"/>
            <a:ext cx="670572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oose two different values for the missing amounts. Make them different kinds of numbers: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x –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4 +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a diagram or create a flow chart that would help someone understand how to solve your equation. (BI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3"/>
          <p:cNvSpPr/>
          <p:nvPr/>
        </p:nvSpPr>
        <p:spPr>
          <a:xfrm>
            <a:off x="1066680" y="2057400"/>
            <a:ext cx="73152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could this activity help the struggling stu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could it help the stronger stu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math is lear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An Open Ac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92B3-9A32-475A-9215-6DE861E1691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9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3"/>
          <p:cNvSpPr/>
          <p:nvPr/>
        </p:nvSpPr>
        <p:spPr>
          <a:xfrm>
            <a:off x="1066680" y="2057400"/>
            <a:ext cx="73152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linear growing pattern has 50 as the 2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erm. Create a bunch of possible patterns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does where your pattern starts relate to how fast it grows?  (BI 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More actio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48D7-44A2-4121-83ED-0767689AC99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6" descr="Picture 2.png"/>
          <p:cNvPicPr/>
          <p:nvPr/>
        </p:nvPicPr>
        <p:blipFill>
          <a:blip r:embed="rId1"/>
          <a:stretch/>
        </p:blipFill>
        <p:spPr>
          <a:xfrm>
            <a:off x="380880" y="1219320"/>
            <a:ext cx="1193760" cy="152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6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6" descr="Picture 2.png"/>
          <p:cNvPicPr/>
          <p:nvPr/>
        </p:nvPicPr>
        <p:blipFill>
          <a:blip r:embed="rId1"/>
          <a:stretch/>
        </p:blipFill>
        <p:spPr>
          <a:xfrm>
            <a:off x="304920" y="838080"/>
            <a:ext cx="1193760" cy="190512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"/>
          <p:cNvSpPr/>
          <p:nvPr/>
        </p:nvSpPr>
        <p:spPr>
          <a:xfrm>
            <a:off x="1066680" y="2057400"/>
            <a:ext cx="73152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wo lines intersect at (1,3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is much steeper than the ot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could the pair of lines be? Give several possibilities. (BI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More Action!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47A8-30BD-453B-8949-41827244481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7" descr="Picture 3.png"/>
          <p:cNvPicPr/>
          <p:nvPr/>
        </p:nvPicPr>
        <p:blipFill>
          <a:blip r:embed="rId1"/>
          <a:stretch/>
        </p:blipFill>
        <p:spPr>
          <a:xfrm>
            <a:off x="152280" y="1219320"/>
            <a:ext cx="1181160" cy="193032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3"/>
          <p:cNvSpPr/>
          <p:nvPr/>
        </p:nvSpPr>
        <p:spPr>
          <a:xfrm>
            <a:off x="1066680" y="2057400"/>
            <a:ext cx="731520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pen questions are also very appropriate for consolid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e saw many of these in our last sess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Consolidati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6BE3-9F8F-42FC-B908-1245514C4F4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5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3"/>
          <p:cNvSpPr/>
          <p:nvPr/>
        </p:nvSpPr>
        <p:spPr>
          <a:xfrm>
            <a:off x="1066680" y="2057400"/>
            <a:ext cx="73152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magine that students have learned about the meaning of linear equations, e.g. what    4x – 2 = 9 mea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E79F-5B42-4FA7-A3DF-9DFCF39D944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7" descr="Picture 3.png"/>
          <p:cNvPicPr/>
          <p:nvPr/>
        </p:nvPicPr>
        <p:blipFill>
          <a:blip r:embed="rId1"/>
          <a:stretch/>
        </p:blipFill>
        <p:spPr>
          <a:xfrm>
            <a:off x="457200" y="1066680"/>
            <a:ext cx="1181160" cy="193068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3"/>
          <p:cNvSpPr/>
          <p:nvPr/>
        </p:nvSpPr>
        <p:spPr>
          <a:xfrm>
            <a:off x="1066680" y="2057400"/>
            <a:ext cx="73152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are these equations alike and different? (BI 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x – 2 = 6 + 9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x – 2 = 6 + 9x – 6x -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You might as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C767-3D2A-46C6-8A6F-FCF9DBA3F8E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9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7" descr="Picture 3.png"/>
          <p:cNvPicPr/>
          <p:nvPr/>
        </p:nvPicPr>
        <p:blipFill>
          <a:blip r:embed="rId1"/>
          <a:stretch/>
        </p:blipFill>
        <p:spPr>
          <a:xfrm>
            <a:off x="457200" y="1143000"/>
            <a:ext cx="1181160" cy="193032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3"/>
          <p:cNvSpPr/>
          <p:nvPr/>
        </p:nvSpPr>
        <p:spPr>
          <a:xfrm>
            <a:off x="1066680" y="205740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parabola is very narrow and one parabola is very wid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do you know or what don’t you know about how their equations differ? (BI 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30AA-C003-494A-ABC8-34B40DA3CE9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1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3"/>
          <p:cNvSpPr/>
          <p:nvPr/>
        </p:nvSpPr>
        <p:spPr>
          <a:xfrm>
            <a:off x="884160" y="1895400"/>
            <a:ext cx="78138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ou will be given a set of open question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ork with a partn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 which part of a 3-part lesson would you consider using each question?  Justify your choice using the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Convince Me!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Matching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D856-7E0F-4448-A395-AB2315457AC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72" dur="indefinite" restart="never" nodeType="tmRoot">
          <p:childTnLst>
            <p:seq>
              <p:cTn id="1273" dur="indefinite" nodeType="mainSeq">
                <p:childTnLst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3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3"/>
          <p:cNvSpPr/>
          <p:nvPr/>
        </p:nvSpPr>
        <p:spPr>
          <a:xfrm>
            <a:off x="884160" y="1895400"/>
            <a:ext cx="7813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hare with another pa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Matching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5D2A-8D84-410E-BA3C-8A03095EE31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9" dur="indefinite" restart="never" nodeType="tmRoot">
          <p:childTnLst>
            <p:seq>
              <p:cTn id="1290" dur="indefinite" nodeType="mainSeq">
                <p:childTnLst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5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03:56:47Z</dcterms:created>
  <dc:creator>PSteele</dc:creator>
  <dc:description/>
  <dc:language>en-US</dc:language>
  <cp:lastModifiedBy>Marian Small</cp:lastModifiedBy>
  <dcterms:modified xsi:type="dcterms:W3CDTF">2009-10-29T04:56:05Z</dcterms:modified>
  <cp:revision>420</cp:revision>
  <dc:subject/>
  <dc:title>Slide 1</dc:title>
</cp:coreProperties>
</file>